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B6F-7420-4FA2-B4EA-0CAD1372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484-53CF-4B6C-AFF9-BCC6A55E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80F-E032-44F7-B08F-F994211C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69B-2ACD-431D-A42C-D1EBC664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29E7-7FBB-4604-8C51-00699ECE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8B70-5AF7-44CD-BBBB-19302625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E293-877E-4B38-9FA6-8FEC3CE7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0F22-A405-4AEC-B721-B82364A9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0E83-E82B-49D4-9DB4-832CB016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C9EB-CB57-4D87-A6A3-1D049CA9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B1CE-A4AA-491C-80C1-44B3389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6DE-3737-4870-9B68-BCFB6D59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57FB-7F17-416D-A672-1EECB84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2478-7BD6-4B40-963E-2128D225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BD8A-39B6-4355-B138-86AF51D7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8EFB-3EFA-4438-A98A-6007BD38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ADC7-F072-4387-BECD-A73B9B78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652-3EED-4336-A661-5B5E6D8E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211-BA14-4407-A9F1-C021862F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E2A-453A-4E8B-AE0B-C7156DA8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FC5-2AFC-419F-88BD-90CE6458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B46-914E-4B2A-A77F-01414261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BD5-562D-48CF-9FC4-4226EF48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265-76A3-47E6-A1D0-0F7FA230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31CF-0FB1-4238-91D6-C441D289519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F6C5-82CC-4FB1-8006-7D721575663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5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63200" cy="659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9"/>
          <p:cNvPicPr/>
          <p:nvPr/>
        </p:nvPicPr>
        <p:blipFill>
          <a:blip r:embed="rId2"/>
          <a:stretch/>
        </p:blipFill>
        <p:spPr>
          <a:xfrm>
            <a:off x="179280" y="4797360"/>
            <a:ext cx="2594160" cy="18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3"/>
          <p:cNvPicPr/>
          <p:nvPr/>
        </p:nvPicPr>
        <p:blipFill>
          <a:blip r:embed="rId3"/>
          <a:stretch/>
        </p:blipFill>
        <p:spPr>
          <a:xfrm>
            <a:off x="6516720" y="4797360"/>
            <a:ext cx="237492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10"/>
          <p:cNvPicPr/>
          <p:nvPr/>
        </p:nvPicPr>
        <p:blipFill>
          <a:blip r:embed="rId4"/>
          <a:stretch/>
        </p:blipFill>
        <p:spPr>
          <a:xfrm>
            <a:off x="3348000" y="4005360"/>
            <a:ext cx="273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714680" y="1071720"/>
            <a:ext cx="6002280" cy="14396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щегосударственные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2 208,1 тыс. рублей (37,7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Блок-схема: альтернативный процесс 7"/>
          <p:cNvSpPr/>
          <p:nvPr/>
        </p:nvSpPr>
        <p:spPr>
          <a:xfrm>
            <a:off x="539640" y="2924280"/>
            <a:ext cx="2664000" cy="22017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899,6 тыс. рублей (38,3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Блок-схема: альтернативный процесс 8"/>
          <p:cNvSpPr/>
          <p:nvPr/>
        </p:nvSpPr>
        <p:spPr>
          <a:xfrm>
            <a:off x="6156360" y="2565360"/>
            <a:ext cx="2879640" cy="9716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общегосударственные вопро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8,5 тыс. рублей (34,6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Блок-схема: процесс 11"/>
          <p:cNvSpPr/>
          <p:nvPr/>
        </p:nvSpPr>
        <p:spPr>
          <a:xfrm>
            <a:off x="3492360" y="5535720"/>
            <a:ext cx="2374920" cy="1122120"/>
          </a:xfrm>
          <a:prstGeom prst="flowChart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Центральный аппара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94,0 тыс. рублей (20,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Прямая со стрелкой 14"/>
          <p:cNvCxnSpPr>
            <a:stCxn id="106" idx="4"/>
            <a:endCxn id="107" idx="0"/>
          </p:cNvCxnSpPr>
          <p:nvPr/>
        </p:nvCxnSpPr>
        <p:spPr>
          <a:xfrm flipH="1">
            <a:off x="1871280" y="2511000"/>
            <a:ext cx="2845440" cy="41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17"/>
          <p:cNvCxnSpPr>
            <a:stCxn id="106" idx="5"/>
            <a:endCxn id="108" idx="0"/>
          </p:cNvCxnSpPr>
          <p:nvPr/>
        </p:nvCxnSpPr>
        <p:spPr>
          <a:xfrm>
            <a:off x="6837480" y="2300400"/>
            <a:ext cx="7596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44"/>
          <p:cNvCxnSpPr>
            <a:stCxn id="107" idx="2"/>
            <a:endCxn id="109" idx="0"/>
          </p:cNvCxnSpPr>
          <p:nvPr/>
        </p:nvCxnSpPr>
        <p:spPr>
          <a:xfrm>
            <a:off x="1871280" y="5126040"/>
            <a:ext cx="280908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214280" y="1071720"/>
            <a:ext cx="73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сударственные во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6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31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Овал 3"/>
          <p:cNvSpPr/>
          <p:nvPr/>
        </p:nvSpPr>
        <p:spPr>
          <a:xfrm>
            <a:off x="395280" y="1484280"/>
            <a:ext cx="8280360" cy="172872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,1 тыс. рублей (36,4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Овал 3"/>
          <p:cNvSpPr/>
          <p:nvPr/>
        </p:nvSpPr>
        <p:spPr>
          <a:xfrm>
            <a:off x="1528920" y="1652760"/>
            <a:ext cx="6265800" cy="14414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ая эконом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4,3 тыс. рублей (10,1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Блок-схема: альтернативный процесс 16"/>
          <p:cNvSpPr/>
          <p:nvPr/>
        </p:nvSpPr>
        <p:spPr>
          <a:xfrm>
            <a:off x="108000" y="3357720"/>
            <a:ext cx="4968720" cy="12268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рожное хозяйство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дорожные фонды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55,4 тыс. рублей (9,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1" name="Прямая со стрелкой 22"/>
          <p:cNvCxnSpPr/>
          <p:nvPr/>
        </p:nvCxnSpPr>
        <p:spPr>
          <a:xfrm>
            <a:off x="4859280" y="3094200"/>
            <a:ext cx="1658160" cy="15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Блок-схема: альтернативный процесс 33"/>
          <p:cNvSpPr/>
          <p:nvPr/>
        </p:nvSpPr>
        <p:spPr>
          <a:xfrm>
            <a:off x="4500720" y="4653000"/>
            <a:ext cx="4370400" cy="198900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вопросы в области национальной экономики  38,9 тыс. рублей  (19,5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534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5"/>
          <p:cNvSpPr/>
          <p:nvPr/>
        </p:nvSpPr>
        <p:spPr>
          <a:xfrm>
            <a:off x="158760" y="25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71680" y="1214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ая эконом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Диаграмма 4" descr=""/>
          <p:cNvPicPr/>
          <p:nvPr/>
        </p:nvPicPr>
        <p:blipFill>
          <a:blip r:embed="rId1"/>
          <a:stretch/>
        </p:blipFill>
        <p:spPr>
          <a:xfrm>
            <a:off x="1332000" y="1952640"/>
            <a:ext cx="619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Овал 3"/>
          <p:cNvSpPr/>
          <p:nvPr/>
        </p:nvSpPr>
        <p:spPr>
          <a:xfrm>
            <a:off x="1403280" y="1125360"/>
            <a:ext cx="6265800" cy="14385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Жилищно-коммунальн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988,6 тыс. рублей (5,4 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Блок-схема: альтернативный процесс 18"/>
          <p:cNvSpPr/>
          <p:nvPr/>
        </p:nvSpPr>
        <p:spPr>
          <a:xfrm>
            <a:off x="2771640" y="4221000"/>
            <a:ext cx="3888000" cy="2232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по техническому обслуживанию газопроводов в рамках подпрограммы «Создание условий для обеспечения качественными жилищно-коммунальными услугами населения Митякинского сельского поселения» муниципальной программы «Обеспечение качественными услугами населения Митякинского сельского поселе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15,0  тыс. рублей (27,7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Блок-схема: альтернативный процесс 33"/>
          <p:cNvSpPr/>
          <p:nvPr/>
        </p:nvSpPr>
        <p:spPr>
          <a:xfrm>
            <a:off x="5408640" y="2900520"/>
            <a:ext cx="2786040" cy="7444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Коммунальное хозяй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115,0  тыс. рублей (27,7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Прямая со стрелкой 34"/>
          <p:cNvCxnSpPr>
            <a:stCxn id="128" idx="6"/>
            <a:endCxn id="130" idx="0"/>
          </p:cNvCxnSpPr>
          <p:nvPr/>
        </p:nvCxnSpPr>
        <p:spPr>
          <a:xfrm flipH="1">
            <a:off x="6801840" y="1844280"/>
            <a:ext cx="8672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Блок-схема: альтернативный процесс 52"/>
          <p:cNvSpPr/>
          <p:nvPr/>
        </p:nvSpPr>
        <p:spPr>
          <a:xfrm>
            <a:off x="395280" y="2708280"/>
            <a:ext cx="2787480" cy="9302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Благоустрой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Times New Roman"/>
              </a:rPr>
              <a:t>873,6 тыс. рублей (4,9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Прямая со стрелкой 53"/>
          <p:cNvCxnSpPr>
            <a:stCxn id="128" idx="4"/>
            <a:endCxn id="132" idx="0"/>
          </p:cNvCxnSpPr>
          <p:nvPr/>
        </p:nvCxnSpPr>
        <p:spPr>
          <a:xfrm flipH="1">
            <a:off x="1788480" y="2563560"/>
            <a:ext cx="27486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7415"/>
          <p:cNvCxnSpPr>
            <a:stCxn id="132" idx="2"/>
          </p:cNvCxnSpPr>
          <p:nvPr/>
        </p:nvCxnSpPr>
        <p:spPr>
          <a:xfrm>
            <a:off x="1788840" y="3638160"/>
            <a:ext cx="1080" cy="142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5" name="Соединительная линия уступом 19"/>
          <p:cNvCxnSpPr>
            <a:endCxn id="129" idx="3"/>
          </p:cNvCxnSpPr>
          <p:nvPr/>
        </p:nvCxnSpPr>
        <p:spPr>
          <a:xfrm rot="5400000">
            <a:off x="5955840" y="4348080"/>
            <a:ext cx="1692720" cy="28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Скругленный прямоугольник 1"/>
          <p:cNvSpPr/>
          <p:nvPr/>
        </p:nvSpPr>
        <p:spPr>
          <a:xfrm>
            <a:off x="395280" y="4076640"/>
            <a:ext cx="2305080" cy="2737080"/>
          </a:xfrm>
          <a:custGeom>
            <a:avLst/>
            <a:gdLst>
              <a:gd name="textAreaLeft" fmla="*/ 112320 w 2305080"/>
              <a:gd name="textAreaRight" fmla="*/ 2192760 w 2305080"/>
              <a:gd name="textAreaTop" fmla="*/ 112320 h 2737080"/>
              <a:gd name="textAreaBottom" fmla="*/ 2624760 h 2737080"/>
            </a:gdLst>
            <a:ahLst/>
            <a:rect l="textAreaLeft" t="textAreaTop" r="textAreaRight" b="textAreaBottom"/>
            <a:pathLst>
              <a:path w="21600" h="25647">
                <a:moveTo>
                  <a:pt x="3600" y="0"/>
                </a:moveTo>
                <a:arcTo wR="3600" hR="3600" stAng="16200000" swAng="-5400000"/>
                <a:lnTo>
                  <a:pt x="0" y="22047"/>
                </a:lnTo>
                <a:arcTo wR="3600" hR="3600" stAng="10800000" swAng="-5400000"/>
                <a:lnTo>
                  <a:pt x="18000" y="25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ходы на благоустройство территории Митякинского 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Прямая со стрелкой 4"/>
          <p:cNvCxnSpPr/>
          <p:nvPr/>
        </p:nvCxnSpPr>
        <p:spPr>
          <a:xfrm>
            <a:off x="1788840" y="3710160"/>
            <a:ext cx="1080" cy="367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20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428840" y="83664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агоу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306360" y="1298520"/>
            <a:ext cx="88138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1528920" y="1214280"/>
            <a:ext cx="6265800" cy="15717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ультура, кинематограф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1 678,6 тыс. рублей ( 36,1 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Блок-схема: альтернативный процесс 16"/>
          <p:cNvSpPr/>
          <p:nvPr/>
        </p:nvSpPr>
        <p:spPr>
          <a:xfrm>
            <a:off x="3203640" y="2924280"/>
            <a:ext cx="2397240" cy="10713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1 678,6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тыс. рублей (36,1 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4" name="Прямая со стрелкой 22"/>
          <p:cNvCxnSpPr>
            <a:endCxn id="143" idx="0"/>
          </p:cNvCxnSpPr>
          <p:nvPr/>
        </p:nvCxnSpPr>
        <p:spPr>
          <a:xfrm flipH="1">
            <a:off x="4401360" y="2781000"/>
            <a:ext cx="26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Скругленный прямоугольник 13"/>
          <p:cNvSpPr/>
          <p:nvPr/>
        </p:nvSpPr>
        <p:spPr>
          <a:xfrm>
            <a:off x="1042920" y="4292640"/>
            <a:ext cx="7345440" cy="187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обеспечение деятельности (оказание услуг) муниципальных бюджетных учреждений Митякинского сельского поселения, в том числе на предоставление субсидий муниципальным бюджетным учреждениям Митякинского сельского поселения в рамках подпрограммы «Развитие культуры» муниципальной программы Митякинского сельского поселения «Развитие культур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1 678,6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тыс. рублей ( 36,1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Прямая со стрелкой 24"/>
          <p:cNvCxnSpPr>
            <a:stCxn id="143" idx="2"/>
            <a:endCxn id="145" idx="0"/>
          </p:cNvCxnSpPr>
          <p:nvPr/>
        </p:nvCxnSpPr>
        <p:spPr>
          <a:xfrm>
            <a:off x="4401720" y="3995280"/>
            <a:ext cx="31500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48" name="Диаграмма 3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61977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785880" y="7650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льтура, кинематогра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Диаграмма 4" descr=""/>
          <p:cNvPicPr/>
          <p:nvPr/>
        </p:nvPicPr>
        <p:blipFill>
          <a:blip r:embed="rId1"/>
          <a:stretch/>
        </p:blipFill>
        <p:spPr>
          <a:xfrm>
            <a:off x="-50760" y="1346040"/>
            <a:ext cx="9353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84240" y="44280"/>
            <a:ext cx="903744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 «Митякинское сельское посел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за 2 квартал  2020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95280" y="1413000"/>
            <a:ext cx="8424720" cy="56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4.01.2020 №1 «О внесении </a:t>
            </a:r>
            <a:r>
              <a:rPr b="0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й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решение Собрания депутатов Митякинского сельского поселения от 26.12.2019 №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12.02.2020  № 4 «О внесении </a:t>
            </a:r>
            <a:r>
              <a:rPr b="0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й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17.03.2020  № 7 «О внесении изменений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7.04.2020  № 9 «О внесении изменений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4737240" cy="133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108000" y="1720800"/>
            <a:ext cx="871200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Решения Собрания депутатов Митякинского сельского поселения от 05.06.2020  № 10«О внесении изменений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br>
              <a:rPr sz="14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9.06.2020  № 12«О внесении изменений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br>
              <a:rPr sz="1400"/>
            </a:br>
            <a:br>
              <a:rPr sz="14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ктор экономики и финансов администрации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Митякин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179280" y="442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Митякинского сельского поселения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2020 год и на плановый период 2021 и 2022 г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000080"/>
          <a:ext cx="877248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  <a:gridCol w="2192400"/>
                <a:gridCol w="2193840"/>
              </a:tblGrid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820,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180,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983,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966,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180,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983,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 145,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</a:tbl>
          </a:graphicData>
        </a:graphic>
      </p:graphicFrame>
      <p:sp>
        <p:nvSpPr>
          <p:cNvPr id="92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20 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1"/>
          <p:cNvSpPr/>
          <p:nvPr/>
        </p:nvSpPr>
        <p:spPr>
          <a:xfrm>
            <a:off x="179280" y="5445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ое исполнение бюджета Митякинского сельского поселения за 2 квартал  2020 года составило по доходам в сумме 5 435,0тыс. рублей (18,2 % от уточнённого плана) и по расходам в сумме 5 164,8 тыс. рублей (16,7 % от уточненного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доходам за 2 квартал 2020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785880"/>
          <a:ext cx="8642160" cy="5824440"/>
        </p:xfrm>
        <a:graphic>
          <a:graphicData uri="http://schemas.openxmlformats.org/drawingml/2006/table">
            <a:tbl>
              <a:tblPr/>
              <a:tblGrid>
                <a:gridCol w="5189400"/>
                <a:gridCol w="1266840"/>
                <a:gridCol w="1150920"/>
                <a:gridCol w="1035000"/>
              </a:tblGrid>
              <a:tr h="71100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0г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 квартал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04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 22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63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22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509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8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9356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6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0636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82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43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17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78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9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90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2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жбюджетные тра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47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82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43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Прямоугольник 3"/>
          <p:cNvGrpSpPr/>
          <p:nvPr/>
        </p:nvGrpSpPr>
        <p:grpSpPr>
          <a:xfrm>
            <a:off x="-122400" y="30240"/>
            <a:ext cx="9394920" cy="920520"/>
            <a:chOff x="-122400" y="30240"/>
            <a:chExt cx="9394920" cy="920520"/>
          </a:xfrm>
        </p:grpSpPr>
        <p:pic>
          <p:nvPicPr>
            <p:cNvPr id="9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2400" y="30240"/>
              <a:ext cx="93949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сновные направления по доходам за 2 квартал 2020 г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Диаграмма 3" descr=""/>
          <p:cNvPicPr/>
          <p:nvPr/>
        </p:nvPicPr>
        <p:blipFill>
          <a:blip r:embed="rId2"/>
          <a:stretch/>
        </p:blipFill>
        <p:spPr>
          <a:xfrm>
            <a:off x="61920" y="930240"/>
            <a:ext cx="8686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расходам за 2 квартал 2020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2240" y="857160"/>
          <a:ext cx="8843760" cy="467208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  <a:gridCol w="57636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20г.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1 квартал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 86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08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 96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9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22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езервный фон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89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0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0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еспечение пожарной безопас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92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е хозяйство (дорожные фонд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2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14200" y="214200"/>
          <a:ext cx="8821800" cy="438336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  <a:gridCol w="576360"/>
              </a:tblGrid>
              <a:tr h="127800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20г.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1 квартал, 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74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8 25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3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оммунальное 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74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7 84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73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окружающей сре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73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охраны окружающей сре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74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офессиональная подготовка, переподготовка и повышение квалифик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3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 65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7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4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 65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7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73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  <a:tr h="272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0 96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164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5"/>
          <p:cNvSpPr/>
          <p:nvPr/>
        </p:nvSpPr>
        <p:spPr>
          <a:xfrm>
            <a:off x="158760" y="12600"/>
            <a:ext cx="871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 2 квартал 2020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Содержимое 5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8331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W7</cp:lastModifiedBy>
  <dcterms:modified xsi:type="dcterms:W3CDTF">2020-07-06T06:46:42Z</dcterms:modified>
  <cp:revision>3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